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479A-7E9E-446C-83B7-E3E93A492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1B44-5EF9-4351-9D7D-74372525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AF6F-6816-4D9A-99B5-FFE587E9E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F283-0E44-4C32-9E7B-1E854BA67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D64F-6E22-4C14-BAF3-EF2DBFDA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574A-CDC4-4E4D-8C44-29D8BF88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F44F-EF51-4E95-9494-ACC31C34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22E9-1612-46E9-9BAA-B349F98E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A713-6FAA-403A-9B8E-1EADBB6D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F7B2-2D10-4B3B-96F7-21BE88E1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1D87-4725-435C-9AE5-4D2833F4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5DB2-901F-40A2-9909-30570EF3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53F9-2C8D-4E68-920C-A0CC3DF291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州市中小学、幼儿园推荐申报教师专业技术资格人员信息表操作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126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矩形 11268"/>
          <p:cNvSpPr/>
          <p:nvPr/>
        </p:nvSpPr>
        <p:spPr>
          <a:xfrm>
            <a:off x="1692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“常州市中小学、幼儿园推荐申报教师专业技术资格人员信息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xls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“所在学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开始粘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11269"/>
          <p:cNvSpPr/>
          <p:nvPr/>
        </p:nvSpPr>
        <p:spPr>
          <a:xfrm flipH="1" flipV="1">
            <a:off x="899640" y="2565360"/>
            <a:ext cx="2303640" cy="194328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2291" descr=""/>
          <p:cNvPicPr/>
          <p:nvPr/>
        </p:nvPicPr>
        <p:blipFill>
          <a:blip r:embed="rId1"/>
          <a:srcRect l="0" t="0" r="0" b="1639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4" name="矩形 12292"/>
          <p:cNvSpPr/>
          <p:nvPr/>
        </p:nvSpPr>
        <p:spPr>
          <a:xfrm>
            <a:off x="1476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 “附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常州市中小学、幼儿园推荐申报教师专业技术资格人员信息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xl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按要求填写其他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2294"/>
          <p:cNvSpPr/>
          <p:nvPr/>
        </p:nvSpPr>
        <p:spPr>
          <a:xfrm>
            <a:off x="6516720" y="2563920"/>
            <a:ext cx="237636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职称多元评价报名工作仍采用从”江苏省中小学教职工信息管理系统” 导出数据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着教育信息化发展，越来越多的教育人事工作将依托”江苏省中小学教职工信息管理系统”的数据在网上开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职工信息管理系统中数据的准确性、完整性和及时性将越来越影响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校使用“江苏省中小学教职工信息管理系统”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导出所有自主申报职称人员信息，并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样式进行编辑、排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打开江苏省中小学教职工信息管理系统，使用学校信息库管理员账号登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3076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矩形 3077"/>
          <p:cNvSpPr/>
          <p:nvPr/>
        </p:nvSpPr>
        <p:spPr>
          <a:xfrm>
            <a:off x="2319120" y="609300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51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矩形 5124"/>
          <p:cNvSpPr/>
          <p:nvPr/>
        </p:nvSpPr>
        <p:spPr>
          <a:xfrm>
            <a:off x="179280" y="4221000"/>
            <a:ext cx="107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125"/>
          <p:cNvSpPr/>
          <p:nvPr/>
        </p:nvSpPr>
        <p:spPr>
          <a:xfrm>
            <a:off x="1835280" y="522936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登录后，点击“教职工信息浏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5126"/>
          <p:cNvSpPr/>
          <p:nvPr/>
        </p:nvSpPr>
        <p:spPr>
          <a:xfrm flipH="1" flipV="1">
            <a:off x="1115640" y="479736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614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矩形 6148"/>
          <p:cNvSpPr/>
          <p:nvPr/>
        </p:nvSpPr>
        <p:spPr>
          <a:xfrm>
            <a:off x="1619280" y="292428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每页改为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6149"/>
          <p:cNvSpPr/>
          <p:nvPr/>
        </p:nvSpPr>
        <p:spPr>
          <a:xfrm>
            <a:off x="4500720" y="3860640"/>
            <a:ext cx="576000" cy="259272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717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矩形 7172"/>
          <p:cNvSpPr/>
          <p:nvPr/>
        </p:nvSpPr>
        <p:spPr>
          <a:xfrm>
            <a:off x="2411280" y="314172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勾选学校择优推荐的申报人员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7173"/>
          <p:cNvSpPr/>
          <p:nvPr/>
        </p:nvSpPr>
        <p:spPr>
          <a:xfrm flipH="1">
            <a:off x="2050560" y="5084640"/>
            <a:ext cx="792360" cy="136872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174"/>
          <p:cNvSpPr/>
          <p:nvPr/>
        </p:nvSpPr>
        <p:spPr>
          <a:xfrm>
            <a:off x="2411280" y="443700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选中的教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175"/>
          <p:cNvSpPr/>
          <p:nvPr/>
        </p:nvSpPr>
        <p:spPr>
          <a:xfrm>
            <a:off x="1476360" y="1268280"/>
            <a:ext cx="287280" cy="5113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819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矩形 8197"/>
          <p:cNvSpPr/>
          <p:nvPr/>
        </p:nvSpPr>
        <p:spPr>
          <a:xfrm>
            <a:off x="3635280" y="213372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选择所有红框内的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198"/>
          <p:cNvSpPr/>
          <p:nvPr/>
        </p:nvSpPr>
        <p:spPr>
          <a:xfrm>
            <a:off x="3708360" y="551664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8199"/>
          <p:cNvSpPr/>
          <p:nvPr/>
        </p:nvSpPr>
        <p:spPr>
          <a:xfrm flipH="1">
            <a:off x="4067280" y="6021360"/>
            <a:ext cx="576000" cy="50328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92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矩形 9220"/>
          <p:cNvSpPr/>
          <p:nvPr/>
        </p:nvSpPr>
        <p:spPr>
          <a:xfrm>
            <a:off x="1042920" y="4653000"/>
            <a:ext cx="7129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右击“文件下载”，选择“目标另存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9221"/>
          <p:cNvSpPr/>
          <p:nvPr/>
        </p:nvSpPr>
        <p:spPr>
          <a:xfrm flipV="1">
            <a:off x="4500720" y="2420640"/>
            <a:ext cx="1511280" cy="216036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024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矩形 10245"/>
          <p:cNvSpPr/>
          <p:nvPr/>
        </p:nvSpPr>
        <p:spPr>
          <a:xfrm>
            <a:off x="611280" y="4724280"/>
            <a:ext cx="712944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存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后，从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开始选中所有数据，并复制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10246"/>
          <p:cNvSpPr/>
          <p:nvPr/>
        </p:nvSpPr>
        <p:spPr>
          <a:xfrm flipH="1" flipV="1">
            <a:off x="1116000" y="2060280"/>
            <a:ext cx="3384720" cy="266364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7:47:16Z</dcterms:created>
  <dc:creator>水虎远</dc:creator>
  <dc:description/>
  <dc:language>en-US</dc:language>
  <cp:lastModifiedBy>czjyj</cp:lastModifiedBy>
  <dcterms:modified xsi:type="dcterms:W3CDTF">2023-06-14T06:59:40Z</dcterms:modified>
  <cp:revision>4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3.0.9228</vt:lpwstr>
  </property>
</Properties>
</file>