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33D8-6D3A-4B7A-A25D-42E39A72C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ADFEF-CF10-471B-BB7C-6219F54DA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F02-91C1-4377-A8D0-EDFA6E861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94B0-5208-45CB-B566-0E7355E03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8BFD-1F45-40BD-A1B2-E88432FC5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3F8D-9EAE-4B85-A360-FB8BEDEFD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4625-A609-4C2D-B57C-6F5BD0F5F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0751-4B90-45C9-8B00-FF6119037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F45-3928-4660-9717-47170E5E2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1F4E-C121-4B78-B90E-6E78B558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3ED6-B8C1-47B6-95BB-F6829A770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78A63-1D5B-41D7-A2F3-E3B4C441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41E9F-505B-47C0-AC4A-4125173D63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常州市中小学、幼儿园推荐申报教师专业技术资格人员信息表操作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692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“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从“所在学校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处开始粘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99640" y="2565360"/>
            <a:ext cx="2303640" cy="194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0" b="16391"/>
          <a:stretch/>
        </p:blipFill>
        <p:spPr>
          <a:xfrm>
            <a:off x="0" y="0"/>
            <a:ext cx="9144000" cy="57340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1476360" y="4292640"/>
            <a:ext cx="712944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在 “附件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常州市中小学、幼儿园推荐申报教师专业技术资格人员信息表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xls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按要求填写其他部分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2563920"/>
            <a:ext cx="2376360" cy="165708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职称多元评价报名工作仍采用从”江苏省中小学教职工信息管理系统” 导出数据方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随着教育信息化发展，越来越多的教育人事工作将依托”江苏省中小学教职工信息管理系统”的数据在网上开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教职工信息管理系统中数据的准确性、完整性和及时性将越来越影响工作质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工作要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各校使用“江苏省中小学教职工信息管理系统”（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导出所有自主申报职称人员信息，并按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2019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常州市中小学、幼儿园推荐申报教师专业技术资格人员信息表 》样式进行编辑、排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：打开江苏省中小学教职工信息管理系统，使用学校信息库管理员账号登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684360" y="1341360"/>
            <a:ext cx="7632720" cy="4680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2319120" y="6093000"/>
            <a:ext cx="484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网址：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ttp://jste.net.cn/uid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9280" y="4221000"/>
            <a:ext cx="1079640" cy="360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35280" y="522936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登录后，点击“教职工信息浏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1115640" y="4797360"/>
            <a:ext cx="576360" cy="6494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619280" y="292428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将每页改为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00”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00720" y="3860640"/>
            <a:ext cx="576000" cy="2592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411280" y="314172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勾选学校择优推荐的申报人员信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2050560" y="5084640"/>
            <a:ext cx="792360" cy="1368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11280" y="4437000"/>
            <a:ext cx="648180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选中的教师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87280" cy="51134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35280" y="213372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选择所有红框内的字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5516640"/>
            <a:ext cx="518472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点击“导出成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4067280" y="6021360"/>
            <a:ext cx="576000" cy="5032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042920" y="4653000"/>
            <a:ext cx="712944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右击“文件下载”，选择“目标另存为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500720" y="2420640"/>
            <a:ext cx="1511280" cy="216036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11280" y="4724280"/>
            <a:ext cx="7129440" cy="1368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打开步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另存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Excel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文件后，从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行开始选中所有数据，并复制它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 flipV="1">
            <a:off x="1116000" y="2060280"/>
            <a:ext cx="3384720" cy="266364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4T07:47:16Z</dcterms:created>
  <dc:creator>水虎远</dc:creator>
  <dc:description/>
  <dc:language>en-US</dc:language>
  <cp:lastModifiedBy>Administrator</cp:lastModifiedBy>
  <dcterms:modified xsi:type="dcterms:W3CDTF">2019-06-24T07:21:56Z</dcterms:modified>
  <cp:revision>31</cp:revision>
  <dc:subject/>
  <dc:title>幻灯片 1</dc:title>
</cp:coreProperties>
</file>